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6A5-1E14-4A9B-835E-649684A3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F4EC-74D4-4767-8C5D-72AC70EA3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A9E0-F6D3-4001-8E38-184C5B109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E9F-889D-43CE-89CD-33EEC2887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DDE9-9175-4CFE-9CDC-C806981B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F0EF-34EF-47F2-83DC-ECF3F166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3471-B38A-4F6F-BD10-34105C32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6E9-C8ED-416B-8D1E-F4DE77EF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341-580A-44A0-A7F9-20AF1216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2E9-FA3D-42C4-AAF0-60691E3D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578-6D4D-4A9E-B88C-2A02BA31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26A-8E81-4562-8FEB-E5098D92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BD4-9863-489C-B0B1-E584466B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1FA-895D-4E19-93DC-1B6E0F9A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951-E121-4316-83CE-6CD79741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07A-2822-4C17-A18C-D43075E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3ED-A2BD-46D8-890A-85EF97B0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CEA-5116-49AD-B862-DC18BB6E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057-F659-4B12-AC11-36DDD0E9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FBF6-F42B-44BF-AA8A-F3DFF53D4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crosoft.com/download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1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" y="6854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A SPOKEN TUTORI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8580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685800" y="3048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lk to a Teach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85800" y="4267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Mission o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7919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5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guj.bmp"/>
          <p:cNvPicPr/>
          <p:nvPr/>
        </p:nvPicPr>
        <p:blipFill>
          <a:blip r:embed="rId1"/>
          <a:stretch/>
        </p:blipFill>
        <p:spPr>
          <a:xfrm>
            <a:off x="1295280" y="5500800"/>
            <a:ext cx="124308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hin.bmp"/>
          <p:cNvPicPr/>
          <p:nvPr/>
        </p:nvPicPr>
        <p:blipFill>
          <a:blip r:embed="rId2"/>
          <a:stretch/>
        </p:blipFill>
        <p:spPr>
          <a:xfrm>
            <a:off x="4233960" y="5505480"/>
            <a:ext cx="102384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pun.bmp"/>
          <p:cNvPicPr/>
          <p:nvPr/>
        </p:nvPicPr>
        <p:blipFill>
          <a:blip r:embed="rId3"/>
          <a:stretch/>
        </p:blipFill>
        <p:spPr>
          <a:xfrm>
            <a:off x="6372360" y="5411880"/>
            <a:ext cx="1704960" cy="547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6"/>
          <p:cNvSpPr/>
          <p:nvPr/>
        </p:nvSpPr>
        <p:spPr>
          <a:xfrm>
            <a:off x="914400" y="4659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poken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7"/>
          <p:cNvSpPr/>
          <p:nvPr/>
        </p:nvSpPr>
        <p:spPr>
          <a:xfrm>
            <a:off x="6477120" y="4659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A Movie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movie_reel 2.jpg"/>
          <p:cNvPicPr/>
          <p:nvPr/>
        </p:nvPicPr>
        <p:blipFill>
          <a:blip r:embed="rId5"/>
          <a:stretch/>
        </p:blipFill>
        <p:spPr>
          <a:xfrm rot="20280000">
            <a:off x="6342120" y="2393640"/>
            <a:ext cx="18302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tuto.bmp"/>
          <p:cNvPicPr/>
          <p:nvPr/>
        </p:nvPicPr>
        <p:blipFill>
          <a:blip r:embed="rId6"/>
          <a:stretch/>
        </p:blipFill>
        <p:spPr>
          <a:xfrm>
            <a:off x="762120" y="1905120"/>
            <a:ext cx="236844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Rectangle 1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2" descr="mic.jpeg"/>
          <p:cNvPicPr/>
          <p:nvPr/>
        </p:nvPicPr>
        <p:blipFill>
          <a:blip r:embed="rId1">
            <a:grayscl/>
          </a:blip>
          <a:srcRect l="10588" t="13863" r="10588" b="13863"/>
          <a:stretch/>
        </p:blipFill>
        <p:spPr>
          <a:xfrm rot="3000000">
            <a:off x="4020120" y="482040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speaker.jpeg"/>
          <p:cNvPicPr/>
          <p:nvPr/>
        </p:nvPicPr>
        <p:blipFill>
          <a:blip r:embed="rId2"/>
          <a:stretch/>
        </p:blipFill>
        <p:spPr>
          <a:xfrm>
            <a:off x="6019920" y="2887560"/>
            <a:ext cx="2609640" cy="252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headphones.jpg"/>
          <p:cNvPicPr/>
          <p:nvPr/>
        </p:nvPicPr>
        <p:blipFill>
          <a:blip r:embed="rId3"/>
          <a:stretch/>
        </p:blipFill>
        <p:spPr>
          <a:xfrm>
            <a:off x="838080" y="2666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8"/>
          <p:cNvSpPr/>
          <p:nvPr/>
        </p:nvSpPr>
        <p:spPr>
          <a:xfrm>
            <a:off x="1066680" y="4876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set with audio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6477120" y="504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4343400" y="557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838080" y="2209680"/>
            <a:ext cx="746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Movie Maker, a component of Microsoft Windows, is an editing software that is available for all the latest Windows version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, XP or V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wnload it free of cost from th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microsoft.com/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11:21Z</dcterms:modified>
  <cp:revision>57</cp:revision>
  <dc:subject/>
  <dc:title>How to use CamStudio</dc:title>
</cp:coreProperties>
</file>