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761-128E-4018-A632-74C4875CA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1469-9608-45EC-8234-C57B80130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D1D7-27C7-46CC-940F-8F97DDE08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9B18-F887-4F65-902B-C0BB7BB85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CF73-77B6-41CC-B3C9-8236E1B65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A9DB-8E30-46A9-9BBD-C5E302357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2B11-A3CF-478B-8B23-16AD02F1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F61F-364A-45E1-8ED2-B103A798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86ED-E836-49AF-A7BB-DA87A1AF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AC69-EE65-4CDB-BAC0-22E01E6CE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F68-339D-4E2C-B8AF-91153B86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B24-028B-420D-AAD2-5A88979B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703-EE66-4796-B67C-D8175494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401-4145-416A-ABF4-A38D8F15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43A-DD12-4418-B2E4-33889067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BFC-65B8-4033-8D3E-1F5628D4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4D0-0166-47DB-9213-71A43FBF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9F1-C2F5-49C6-91F2-E568FE8C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F9D-138E-4701-9042-1A173C1D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2BE-8133-4FB0-BFB5-AB3E757C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585-A95D-4DB3-A561-74AF49B9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B4B-D07D-4980-ADF0-D82BC939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EEBB-BDF9-48F6-8003-D3514D965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hyperlink" Target="http://www.camstudio.org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9"/>
          <p:cNvGrpSpPr/>
          <p:nvPr/>
        </p:nvGrpSpPr>
        <p:grpSpPr>
          <a:xfrm>
            <a:off x="223920" y="217440"/>
            <a:ext cx="8653320" cy="6486480"/>
            <a:chOff x="223920" y="217440"/>
            <a:chExt cx="8653320" cy="6486480"/>
          </a:xfrm>
        </p:grpSpPr>
        <p:pic>
          <p:nvPicPr>
            <p:cNvPr id="49" name="Rectangle 3" descr=""/>
            <p:cNvPicPr/>
            <p:nvPr/>
          </p:nvPicPr>
          <p:blipFill>
            <a:blip r:embed="rId1"/>
            <a:stretch/>
          </p:blipFill>
          <p:spPr>
            <a:xfrm>
              <a:off x="223920" y="217440"/>
              <a:ext cx="865332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ounded Rectangle 5"/>
            <p:cNvGrpSpPr/>
            <p:nvPr/>
          </p:nvGrpSpPr>
          <p:grpSpPr>
            <a:xfrm>
              <a:off x="603360" y="529560"/>
              <a:ext cx="7978680" cy="5879880"/>
              <a:chOff x="603360" y="529560"/>
              <a:chExt cx="7978680" cy="5879880"/>
            </a:xfrm>
          </p:grpSpPr>
          <p:pic>
            <p:nvPicPr>
              <p:cNvPr id="5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3360" y="529560"/>
                <a:ext cx="797868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008000" y="929520"/>
                <a:ext cx="717012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3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2133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85800" y="3962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85800" y="525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9"/>
          <p:cNvGrpSpPr/>
          <p:nvPr/>
        </p:nvGrpSpPr>
        <p:grpSpPr>
          <a:xfrm>
            <a:off x="223920" y="217440"/>
            <a:ext cx="8653320" cy="6486480"/>
            <a:chOff x="223920" y="217440"/>
            <a:chExt cx="8653320" cy="6486480"/>
          </a:xfrm>
        </p:grpSpPr>
        <p:pic>
          <p:nvPicPr>
            <p:cNvPr id="58" name="Rectangle 3" descr=""/>
            <p:cNvPicPr/>
            <p:nvPr/>
          </p:nvPicPr>
          <p:blipFill>
            <a:blip r:embed="rId1"/>
            <a:stretch/>
          </p:blipFill>
          <p:spPr>
            <a:xfrm>
              <a:off x="223920" y="217440"/>
              <a:ext cx="865332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Rounded Rectangle 5"/>
            <p:cNvGrpSpPr/>
            <p:nvPr/>
          </p:nvGrpSpPr>
          <p:grpSpPr>
            <a:xfrm>
              <a:off x="603360" y="529560"/>
              <a:ext cx="7978680" cy="5879880"/>
              <a:chOff x="603360" y="529560"/>
              <a:chExt cx="7978680" cy="5879880"/>
            </a:xfrm>
          </p:grpSpPr>
          <p:pic>
            <p:nvPicPr>
              <p:cNvPr id="6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3360" y="529560"/>
                <a:ext cx="797868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008000" y="929520"/>
                <a:ext cx="717012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2286000"/>
            <a:ext cx="86868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SPONSORED BY</a:t>
            </a:r>
            <a:br>
              <a:rPr sz="3200"/>
            </a:b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Talk to a Teacher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00200" y="4902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</a:rPr>
              <a:t>MH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14300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Arial"/>
              </a:rPr>
              <a:t>A SPOKEN TU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685800" y="5562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sakshat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85800" y="384804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National Mission on Education</a:t>
            </a:r>
            <a:br>
              <a:rPr sz="2800"/>
            </a:b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through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69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7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838080" y="33764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Animation and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78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8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838080" y="2514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is a screen-recording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records all activities that you see on your screen in AVI format and allows you to play them back later 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87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89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914400" y="216216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You can use CamStudio to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demonstrate features of a new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reate audio-video tutorials for schools / col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reate AVI video movies used in user train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show how to perform a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onvert AVI files to Flash (SWF)  files and m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other u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TextBox 8"/>
          <p:cNvGrpSpPr/>
          <p:nvPr/>
        </p:nvGrpSpPr>
        <p:grpSpPr>
          <a:xfrm>
            <a:off x="957240" y="5187960"/>
            <a:ext cx="7388280" cy="1146240"/>
            <a:chOff x="957240" y="5187960"/>
            <a:chExt cx="7388280" cy="1146240"/>
          </a:xfrm>
        </p:grpSpPr>
        <p:pic>
          <p:nvPicPr>
            <p:cNvPr id="96" name="TextBox 8" descr=""/>
            <p:cNvPicPr/>
            <p:nvPr/>
          </p:nvPicPr>
          <p:blipFill>
            <a:blip r:embed="rId4"/>
            <a:stretch/>
          </p:blipFill>
          <p:spPr>
            <a:xfrm>
              <a:off x="957240" y="5187960"/>
              <a:ext cx="7388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295280" y="5481720"/>
              <a:ext cx="670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75e"/>
                  </a:solidFill>
                  <a:latin typeface="Calibri"/>
                </a:rPr>
                <a:t>The uses of this little known software are limitl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99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0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838080" y="25146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can be used with Microsoft Windows 95, 98, Me, NT 4.0, 2000 or XP vers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The minimum requirements are as follow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400 MHz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6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4 MB of hard-disk space for program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08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1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838080" y="2514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is an open source software and can be downloaded free of cost from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Go to the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camstudi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17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19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368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Advanced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25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27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368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Talk to a Teach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National Mission on Education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through 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60020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4575"/>
                </a:solidFill>
                <a:latin typeface="Arial"/>
              </a:rPr>
              <a:t>An MHRD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37:51Z</dcterms:created>
  <dc:creator>ABC</dc:creator>
  <dc:description/>
  <dc:language>en-US</dc:language>
  <cp:lastModifiedBy>Nancy</cp:lastModifiedBy>
  <dcterms:modified xsi:type="dcterms:W3CDTF">2012-02-17T13:29:00Z</dcterms:modified>
  <cp:revision>28</cp:revision>
  <dc:subject/>
  <dc:title>How to use CamStudio</dc:title>
</cp:coreProperties>
</file>